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35D-A5B6-4D24-8CC3-B4D1AD97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104-C87D-448C-950E-13DC6E4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F48-8D40-4084-8335-83CB3372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087-82DA-4A26-A646-13845D37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42B-6ACE-4FEA-89C3-C7AC5FE5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3BF-41D2-43EE-8B24-F8D258ED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047-428C-4473-BD61-2B50D29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4F8-3F00-49CD-838A-AEDCEBC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EA9-2071-4649-A205-2783FB6F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0D3-FA0E-42C6-B841-0B7FB7D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AFC-BD4E-4C22-8516-914F865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DA1-E8D7-4B3A-A704-9FCC69C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C2A0-F1C5-4711-9610-606BE2781F8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42cd4"/>
                </a:solidFill>
                <a:latin typeface="Times New Roman"/>
              </a:rPr>
              <a:t>„</a:t>
            </a:r>
            <a:r>
              <a:rPr b="1" lang="pl-PL" sz="4400" spc="-1" strike="noStrike">
                <a:solidFill>
                  <a:srgbClr val="542cd4"/>
                </a:solidFill>
                <a:latin typeface="Times New Roman"/>
              </a:rPr>
              <a:t>SAPCZECH” s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Nasza firma zajmuj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się produkcją i sprze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darzą uchwytów łazie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nkowych dla ludzi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niepełnosprawny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"/>
              </a:rPr>
              <a:t>i osób starszych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WAN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ZOŁ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11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2971800"/>
            <a:ext cx="457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66688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666880"/>
            <a:ext cx="76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666880"/>
            <a:ext cx="6098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74320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6668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429160"/>
            <a:ext cx="27432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WANN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895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657600"/>
            <a:ext cx="759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18148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486400"/>
            <a:ext cx="15242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562720"/>
            <a:ext cx="12956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376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WAN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819520" y="5029200"/>
            <a:ext cx="380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581280"/>
            <a:ext cx="15228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51055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562720"/>
            <a:ext cx="1522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80988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733920"/>
            <a:ext cx="304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03848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3049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352680"/>
            <a:ext cx="7632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098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267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098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4114800"/>
            <a:ext cx="1526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267080"/>
            <a:ext cx="1522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4038480"/>
            <a:ext cx="763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114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5486400"/>
            <a:ext cx="297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52578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WAN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9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WAN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9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14600" y="28954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8954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9625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62520" y="2743200"/>
            <a:ext cx="228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666880"/>
            <a:ext cx="37335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7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2666880"/>
            <a:ext cx="914400" cy="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7242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7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376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42cd4"/>
                </a:solidFill>
                <a:latin typeface="Times New Roman"/>
              </a:rPr>
              <a:t>„</a:t>
            </a:r>
            <a:r>
              <a:rPr b="1" lang="pl-PL" sz="4400" spc="-1" strike="noStrike">
                <a:solidFill>
                  <a:srgbClr val="542cd4"/>
                </a:solidFill>
                <a:latin typeface="Times New Roman"/>
              </a:rPr>
              <a:t>SAPCZECH” s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80988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95680" y="1980720"/>
            <a:ext cx="4648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Oto nasz ad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APCZECH” s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36-030 Błaż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k. Rzesz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oj. Podkarpac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ul. Armii Krajowej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tel/fax; (0-17)  2290-7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po godz. 16.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(0-17)  2298-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(0-17)  2257-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-mail: sapa@intertele.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884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884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Y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7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2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000" y="5791320"/>
            <a:ext cx="29718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Uchwyt podnoszony do pionu utrzymuje się w dowolnej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pozycji.</a:t>
            </a: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Ottaw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Ottaw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 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 C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376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RYS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05160" y="2666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RYS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8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6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ŁUP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OZPO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IO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 - 43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wg zamów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19368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RZESEŁ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4120" y="2743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ZESEŁ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2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RZESEŁ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ZESEŁ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WIESZ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2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RZESEŁ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ZESEŁ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NN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2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RABINKI ASEKU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ABIM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NN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3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22179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RABINKI ASEKU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ABINKA DO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3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1752480"/>
            <a:ext cx="284796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2855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ANOWNI PAŃS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stawa o zatrudnieniu i rehabilitacji zawodowej osób niepełnosprawnych stworzyła możliwości pełnego ich uczestnict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 życiu społecznym. Poważną barierą w urzeczywistnieniu tych planów jest nieprzystosowanie znajdujących  się 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budynkach użyteczności publicznej węzłów sanitarnych. Skromnym wkładem w proces likwidacji występujący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barier architektonicznych są produkowane przez naszą firmę uchwyty łazienkow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astosowanie ich przy wannach , prysznicach, sedesach i umywalkach ułatwia poruszanie się i w znacznym stopn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zwiększa bezpieczeństwo osób korzystających z urządzeń sanitar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chwyty naszej produkcji są dobrej jakości, wykonane wg norm ergonomicznych, pokryte atestowanym lakier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epoksydowym, zgodnie z najnowszymi tendencjami przy tego typu i tej klasy wyroba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chwyty łazienkowe mogą być finansowane z Państwowego Funduszu Rehabilitacyjnego Osób Niepełnospraw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Na podstawie rozporządzenia Ministra Finansów z dn. 08.12.94 r. zał. nr 2 poz. 17, Dziennik Ustaw 133, wyro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te zostały objęte zerową stawką podatku V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Serdecznie zapraszamy Państwa do współpracy. Wdzięczni będziemy za wszelkie uwagi i sugestie na temat naszych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yrobów. Przy rozwiązaniu węzłów sanitarnych pod kątem adaptacji dla potrzeb osób niepełnosprawnych służym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doradztwem , realizujemy indywidualne projekty, które mogłyby ułatwić egzystencje osobom nie w pełni sprawnym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4120" y="2666520"/>
            <a:ext cx="3581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PRO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30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15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2743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PROSTY NAROŻ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30 do 15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9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3505320"/>
            <a:ext cx="304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33412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3526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4800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UMYWALKOW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5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1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876920"/>
            <a:ext cx="6098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8954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MIĘDZY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YWAL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ŚROD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5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2666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CHWY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YWAL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5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1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 - 3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14800" y="4191120"/>
            <a:ext cx="304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CHWYTY ŁAZIENK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SŁONA SYF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MYWAL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umer katalogowy: 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 - 40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 - 2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8T13:11:04Z</dcterms:created>
  <dc:creator>Witold Sapa</dc:creator>
  <dc:description/>
  <dc:language>en-US</dc:language>
  <cp:lastModifiedBy>Witold Sapa</cp:lastModifiedBy>
  <cp:lastPrinted>1999-08-26T18:03:07Z</cp:lastPrinted>
  <dcterms:modified xsi:type="dcterms:W3CDTF">1999-09-04T06:09:03Z</dcterms:modified>
  <cp:revision>46</cp:revision>
  <dc:subject>PRODUKCJA I SPRZEDAŻ UCHWYTÓW ŁAZIENKOWYCH DLA OSÓB NIEPEŁNOSPRAWNYCH</dc:subject>
  <dc:title>PREZENTACJA FIRMY„SAPCZECH” s.c.</dc:title>
</cp:coreProperties>
</file>